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C6E-DF01-442B-AD8F-F050862D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E4F-AF38-4554-BC66-D0440DD2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2EB-1503-4586-A21A-AEDC4B31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DFC-13F3-4D21-A502-669B399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7B7-79B1-4D1B-86DE-154F8CF8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BB2-7595-42B0-A2D7-7B6D32F0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E7F-3807-4F3E-AEB1-C828A521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F6F-1052-42C0-9F69-816FB98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B47-8B8A-4CEB-B235-E13FEB4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967-8E4C-4037-A739-20446327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4AF-2B07-47B4-98BC-41B2E1D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070-C145-4AC9-85E0-DF0C5E5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79416-3C9B-4B69-80B7-07E387A9F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 Documen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1:14:02Z</dcterms:created>
  <dc:creator/>
  <dc:description/>
  <dc:language>en-US</dc:language>
  <cp:lastModifiedBy/>
  <cp:revision>0</cp:revision>
  <dc:subject/>
  <dc:title/>
</cp:coreProperties>
</file>