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53C-06BA-475D-AE5B-9CA8E7E3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99C-8864-49B5-927C-65257770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1B0-A7DE-4BB9-8B6C-EF13D701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988-1D87-4194-BB20-D8FB7F09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D6A-A99C-49F4-A5C7-E18A0C5B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D48-58B6-443B-B15B-E0785894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888-7FD5-4D7C-A22C-47FC37C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B30-DB91-4943-9AC1-482B1501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9BB-599F-457E-B7A0-CAB933F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10F-DA3F-4168-B533-F8E4A0C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458-2048-46F6-BCB1-5CA7097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B66-8B57-4856-AA09-B16C35C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37702-5279-479A-8E11-46C40CBB0C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st Docu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1:14:02Z</dcterms:created>
  <dc:creator/>
  <dc:description/>
  <dc:language>en-US</dc:language>
  <cp:lastModifiedBy/>
  <cp:revision>0</cp:revision>
  <dc:subject/>
  <dc:title/>
</cp:coreProperties>
</file>